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breeze.wav" ContentType="audio/x-wav"/>
  <Override PartName="/ppt/media/image9.gif" ContentType="image/gif"/>
  <Override PartName="/ppt/media/explode.wav" ContentType="audio/x-wav"/>
  <Override PartName="/ppt/media/image15.png" ContentType="image/png"/>
  <Override PartName="/ppt/media/image6.gif" ContentType="image/gif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8.jpeg" ContentType="image/jpeg"/>
  <Override PartName="/ppt/media/laser.wav" ContentType="audio/x-wav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BD3-579D-426B-95D5-EF3030FB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490-7951-4B44-9F64-BC623D5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CF7C-521D-4276-80DB-51C0603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02688-5105-4033-A574-FE86AA7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0F3C-9E17-418B-A48B-36FED7B1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87204-4D93-485F-9E89-8119869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B3C67-4E2D-45E7-9152-88E53FE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9E3C4-AA80-439A-A6D6-7DE5BE9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54FAE-C97E-4DD9-B457-7CADDB40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CF8C5-C3D3-4ECF-9ECA-26AC0238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3999C-7A0B-4615-A7F4-962B97DF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514D0-77E9-409A-82FA-120745A9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5CC-9D20-421C-B780-62B51562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FC957-67B7-4A09-8C24-DDFE8A8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5133C-ABAA-4AEF-9445-2022B5E9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55BFA-C925-4829-B1A4-6AA2844E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7C26D-8876-4474-A015-6D30FC3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70B7B-F4C7-464C-A1D9-6557450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51464-A0B2-4811-8844-8EA3A4D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FC76F-F43D-4515-836E-718B19A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D83A-05BC-44FB-A551-A2C2F59F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1E75-30A4-49C0-9CB0-9C51A35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DC87A-9F18-472F-B58A-5FF21334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1AB-FD6F-4DBC-ADD7-A65CAD04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FF525-5FCD-464D-8E50-48620D5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DE7F-AE07-4CA0-B432-5A307587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EB2E-4848-499F-8BBA-ED8F690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7110E-7C5E-4A29-B4AA-855C279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9652F-6D73-49D1-A3CF-989A6C32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414D-9F47-4D9B-9FA0-0EC33F4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423F-90AC-46E7-9286-B2382932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9ED3A-2D19-49E8-9176-4496AAC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C2714-0FA7-4094-A7D4-BF11CF3D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FBF7-4E22-41FB-BD7A-880CAC1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06C2-C2FB-48EB-8E2D-E688E76E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DB66-A580-4E9E-8725-B3E4B1B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F298-A935-46D2-B219-196B4138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899D4-2927-4CAF-A989-46B7B38E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EAB6-3F54-4553-85CC-2FAF53D1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94E04-4878-45CA-BCAA-7CE698E3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B7B0-149A-4122-B0DE-200C01E9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C7FA8-D501-4F9D-AB43-92E6E81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3A310-B757-4050-B968-97EF7320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D81C0-1A73-403C-962C-ECCAEDF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7672-8279-4055-9C87-46695EB2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F2C-5915-40A1-88F4-9D98B12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97EAE-7CA3-4086-A63F-7249052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0F589-ACBE-43E0-A07F-22105C2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160C9-0DF4-473A-BC59-F951FDC4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D0AFE-114F-4CA3-BB0E-9031D7EE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1DA7-D753-4EAD-A485-A667FD7A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A7D08-C399-4F3A-B0B5-DF9D2810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2364A-03C6-4E16-9940-0AF88F1D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CFFFF-0A3C-4139-AFA4-7BF3967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CBE00-7081-44EF-872F-9127DD48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E66D5-8DF4-419C-A952-C49A9832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13F-F021-4842-8F51-43D5FF55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A35C7-2894-423F-916D-6F65DCD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A2A2F-CEAD-4955-8453-52191F3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E9C24-C7CF-4672-BB22-E729DD3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59B8F-E24F-455A-A4FA-6853437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638B5-2C62-4BB3-8F52-2C89B5D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A3D70-6E20-478F-8A81-2F446C32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34968-8B69-4181-AEE3-8ACC71E4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D91A0-D82E-458C-8342-8F4D5AA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C414B-4704-4484-8E68-C33EB51F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F5AE9-36F3-4FF9-BF8D-3567DFD6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FBE-4D87-40F0-B7A0-3F542FE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0B712-FD00-4876-B381-054982D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87B35-F8F5-45CE-97F2-9F06BA71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A286D-6E0E-4E74-AE40-77CC8A04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CC8D8-2866-44A1-AC36-46436EF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FDD10-CFA5-4F47-BAE4-893686D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C858E-536C-48F0-87EB-EB4BC01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95EEA-FAD2-43B3-85D2-CFF717AA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6F63E-3205-4A92-8468-38A92AC5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A7103-125F-4999-9F0A-9E9B23A8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97659-F27C-462D-BF98-CBFC30C3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5DC7-7592-4810-A0B5-8367160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3D60B-F5EE-4F5B-A9EB-E273E3E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69283-7DA6-4AE2-BBCA-8D4A7CF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3D262-778B-4C59-8E48-179924A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EF3EC-1A31-4272-8CCE-3C6F9AB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172B1-17FF-4628-ACB1-5D2969F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C9AD5-BAF8-4A5B-9F8D-6ED437A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5B1A5-929E-43AF-A61F-DC5CFB1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5504F-77FE-41E7-B33B-8D21C81B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D0E4B-369C-43CE-80B3-AA3B438B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C740B-0456-4C16-A556-DD240D3C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0285-F4DE-4ACC-833F-93AF7D2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E5453-F076-4999-98DF-8480E62B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87B6-CA33-4353-8383-8EFAD31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BE8-86F2-49E8-90A9-E59D45F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FC5B-B8A3-4A59-8B2C-314D157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458D-F537-4C78-AC5A-20B5B99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852-E971-41E2-9F87-F1B97D24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836-22F9-484D-87B6-848D0596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405-DE7A-4571-A9CE-C877E566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F63E-C20F-4C1D-9B95-2D6FD0C8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3098-9FEA-437B-9BBD-B509351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53CD-B163-4266-AFB7-D5A148B4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584F-D3E7-41A2-9787-1F016BD6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A69B-5860-40D7-8F2D-F254E23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DC5-1958-4B12-A316-66905829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D9AD-2C52-4B4B-AEAB-9B58384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A803-71FF-4B48-BBC6-C79E5A0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27B3-661E-44BD-B09B-73372AC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B1EB-858F-4EF7-8F72-EB49FFB8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CD97-AEF4-4448-95A2-5EF4806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8F14-C919-4FE6-8496-E52BCAA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5B56-842D-4C5C-8F75-3676BA9B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9BA9-CC03-4EE9-813B-1D0C700A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319E-09EF-43D7-B8DF-33FC9F0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B40C-7667-4297-B2F8-DACE2AF2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DD5-065A-48D5-AEEC-6B5D9BD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6762-B089-491D-A37F-BEE0654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50F0-2443-4B24-8089-34A1035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4509-60A6-4F26-BF3F-13B53326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C016-42C2-4A7B-A866-DFB7553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A096-653E-4E18-8D18-2DDB8F5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CC63-CA8A-41D5-8F65-D60443F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9EF6-612F-48D8-9EC3-502EEBB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3E9C-7102-404E-ADAE-91624FE2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D85D-4ED3-46BF-9D74-03C401A1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8895-F554-4CEC-98BF-58760A9D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82F-D917-41D9-8F08-A03826E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28B4-0A7D-4E43-9D6C-51468C9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7C22-862F-44F0-822B-7A1FC99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6E872-8BA5-4930-ADC8-ABA6116D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83D0-FF96-4350-A090-112160F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D5DF-1C9A-49AC-9590-288A3D23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1BE2-6014-4D76-A64A-15CE4644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BEDEA-E121-4E4B-84E0-DE8D724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7E7C-F614-443D-B543-1ABF2A4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B341B-7038-426B-A5B7-73C6E2C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22439-293C-47C4-8FA1-E8701286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C5C-A1FE-41F9-A9A0-995037E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72FD-724B-4DF6-885E-249C1128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5D5C-19BC-46BE-BC0D-F142E5AB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2057-27A7-44DA-B494-380485A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39B4-8AB7-43AF-BE7D-440DEA7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9293-2822-43A1-A75F-2F50EFA1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1F4A-1C4C-44D2-94E6-AAC9E2A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0227-9B34-4F0B-A2E6-BD95E4EA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3AD1-3A62-44D2-AE12-EE28584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92B8C-E50D-46DF-90BB-46B1354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CD91E-3B2D-489E-8146-64DE873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B26-127D-4FAA-911A-4194107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1755-E592-4897-989E-9C5ABBDE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DAE7-782C-4E0B-9B90-8CDD71A2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3818-B2E7-40EC-AFC5-6837B711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4523-94DB-4289-AFCB-1E9A49BB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690E-CE55-42D5-817E-F98F4A14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C33C-7DFE-4E6A-BA4B-6814DF7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F3E62-6C5A-45DE-8EA2-FD7410C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B687-79C5-4581-A862-BA2B2F3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EE5C-5400-4C80-B0DA-D0A26DD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93BB4-D27E-4177-83B8-2D32EED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9D6-4CC0-43E1-BBDE-4131ACC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1FC6-CC0B-4926-8A0D-2F0240D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66B3-5AAE-4F04-807D-56E3AD3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4FD8-2F65-4ACF-AC4F-7A07FDC0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E2B4-A072-416F-B699-77C89351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7D7D-AA6F-4441-92C3-A2CE1187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241E-480D-4FE2-8683-9BE1E6F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112CF-2AE5-44CA-85D1-1EAC2E09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8101-4417-4727-B9DE-A9B878B0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59B2-17AE-4CF5-AA4C-A0334D22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E0CA-CEDF-4025-8434-B7360228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117-8834-46CB-92E2-2547BAC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73697-FECE-4AA9-AF0F-FB65CC48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FAA6-2C7A-4565-A802-9C644A0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8D69-B573-4830-B568-ADA509D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7C3E-0953-4E5C-80BA-84F50D6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8163-C53D-4231-99CB-C352018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78A3-2FBB-4859-8DA9-52810794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700A-E5BB-4CB2-B488-3D20CD0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F7DE-3E45-41B5-B992-B0FAD5C6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1D71B-B219-49D2-BC4A-93BA202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C56EA-4839-4123-AE45-D8E78C2B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1D4-C45B-48BB-BDF5-13A5446F5A0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D34-EFFC-4969-A08F-7BC553DAC147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5B7-6872-4924-BD65-DBF0B2A75880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1F2D-0B39-473C-9B28-00C793D53D1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58C1-0125-485C-AF68-F923083386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7FD4-CCB1-4F6F-8BC9-4EAC107F52E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87AC-B2BA-425B-8542-ECEFB4A3579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94CF-5BD4-4DFC-8964-4FD65BEFA5C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22B-C99C-4F62-BCC5-EFBC5984439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EC3B-32EF-486A-80D1-98DAD981617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78A-FB93-45C9-B4C6-E0A94C65CF0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E63F-223B-4726-912C-B13A6671C2C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7ED3-1E79-4905-A558-1246C7568E2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67E-9094-4073-848B-85B772E9770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82A5-E4B1-4F1E-ADC6-9762DC4FCE2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333333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By: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Kristen ITC"/>
              </a:rPr>
              <a:t>Salome Matano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232"/>
                </a:solidFill>
                <a:latin typeface="Perpetua Titling MT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Matter is anything t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takes up space 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and </a:t>
            </a:r>
            <a:r>
              <a:rPr b="0" lang="en-US" sz="3600" spc="-1" strike="noStrike">
                <a:solidFill>
                  <a:srgbClr val="008000"/>
                </a:solidFill>
                <a:latin typeface="Calisto MT"/>
              </a:rPr>
              <a:t>has mass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p:transition advTm="8000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Properties of Matter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774720" y="1828800"/>
            <a:ext cx="7588080" cy="4297320"/>
          </a:xfrm>
          <a:prstGeom prst="rect">
            <a:avLst/>
          </a:prstGeom>
          <a:ln w="0">
            <a:noFill/>
          </a:ln>
        </p:spPr>
      </p:pic>
      <p:pic>
        <p:nvPicPr>
          <p:cNvPr id="645" name="Diagram 6" descr=""/>
          <p:cNvPicPr/>
          <p:nvPr/>
        </p:nvPicPr>
        <p:blipFill>
          <a:blip r:embed="rId2"/>
          <a:stretch/>
        </p:blipFill>
        <p:spPr>
          <a:xfrm>
            <a:off x="1523880" y="1268280"/>
            <a:ext cx="6096240" cy="433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SOLID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47" name="Picture 5" descr="j0283725"/>
          <p:cNvPicPr/>
          <p:nvPr/>
        </p:nvPicPr>
        <p:blipFill>
          <a:blip r:embed="rId1"/>
          <a:srcRect l="0" t="21948" r="0" b="21948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" descr="MPj03961280000[1]"/>
          <p:cNvPicPr/>
          <p:nvPr/>
        </p:nvPicPr>
        <p:blipFill>
          <a:blip r:embed="rId2"/>
          <a:srcRect l="0" t="32006" r="0" b="32006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MPj03873030000[1]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ffffff"/>
                </a:solidFill>
                <a:latin typeface="FlashDLig"/>
              </a:rPr>
              <a:t>Liquids</a:t>
            </a:r>
            <a:endParaRPr b="0" lang="en-US" sz="116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51" name="Picture 3" descr="j0282866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j0112668[1]"/>
          <p:cNvPicPr/>
          <p:nvPr/>
        </p:nvPicPr>
        <p:blipFill>
          <a:blip r:embed="rId2"/>
          <a:srcRect l="0" t="6449" r="0" b="6449"/>
          <a:stretch/>
        </p:blipFill>
        <p:spPr>
          <a:xfrm>
            <a:off x="4797360" y="1828800"/>
            <a:ext cx="3565440" cy="4297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lashDLig"/>
              </a:rPr>
              <a:t>GAS</a:t>
            </a:r>
            <a:endParaRPr b="0" lang="en-US" sz="115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5" name="Picture 4" descr="j0181469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By adding energy the state changes.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plasma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Solidoga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liqu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+ energy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solids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  <a:p>
            <a:pPr marL="110160" indent="-110160">
              <a:lnSpc>
                <a:spcPct val="8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33"/>
                </a:solidFill>
                <a:latin typeface="Calisto MT"/>
              </a:rPr>
              <a:t> </a:t>
            </a:r>
            <a:endParaRPr b="0" lang="en-US" sz="6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8" name="Picture 402" descr="MCj02158370000[1]"/>
          <p:cNvPicPr/>
          <p:nvPr/>
        </p:nvPicPr>
        <p:blipFill>
          <a:blip r:embed="rId1"/>
          <a:stretch/>
        </p:blipFill>
        <p:spPr>
          <a:xfrm>
            <a:off x="1447920" y="5638680"/>
            <a:ext cx="914400" cy="614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04" descr="MCj04348160000[1]"/>
          <p:cNvPicPr/>
          <p:nvPr/>
        </p:nvPicPr>
        <p:blipFill>
          <a:blip r:embed="rId2"/>
          <a:stretch/>
        </p:blipFill>
        <p:spPr>
          <a:xfrm>
            <a:off x="3048120" y="45720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06" descr="MCj04417500000[1]"/>
          <p:cNvPicPr/>
          <p:nvPr/>
        </p:nvPicPr>
        <p:blipFill>
          <a:blip r:embed="rId3"/>
          <a:stretch/>
        </p:blipFill>
        <p:spPr>
          <a:xfrm>
            <a:off x="4267080" y="3657600"/>
            <a:ext cx="828720" cy="847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7" descr="MCj04348160000[1]"/>
          <p:cNvPicPr/>
          <p:nvPr/>
        </p:nvPicPr>
        <p:blipFill>
          <a:blip r:embed="rId4"/>
          <a:stretch/>
        </p:blipFill>
        <p:spPr>
          <a:xfrm>
            <a:off x="5638680" y="251460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09" descr="MCj04413910000[1]"/>
          <p:cNvPicPr/>
          <p:nvPr/>
        </p:nvPicPr>
        <p:blipFill>
          <a:blip r:embed="rId5"/>
          <a:stretch/>
        </p:blipFill>
        <p:spPr>
          <a:xfrm>
            <a:off x="6934320" y="1600200"/>
            <a:ext cx="990360" cy="952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0"/>
          <p:cNvSpPr/>
          <p:nvPr/>
        </p:nvSpPr>
        <p:spPr>
          <a:xfrm>
            <a:off x="2595960" y="5334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5186520" y="3276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6477120" y="2286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Box 15"/>
          <p:cNvSpPr/>
          <p:nvPr/>
        </p:nvSpPr>
        <p:spPr>
          <a:xfrm>
            <a:off x="25966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Box 16"/>
          <p:cNvSpPr/>
          <p:nvPr/>
        </p:nvSpPr>
        <p:spPr>
          <a:xfrm>
            <a:off x="549288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17"/>
          <p:cNvSpPr/>
          <p:nvPr/>
        </p:nvSpPr>
        <p:spPr>
          <a:xfrm>
            <a:off x="8233560" y="2590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                  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      </a:t>
            </a:r>
            <a:r>
              <a:rPr b="0" lang="en-US" sz="7200" spc="-1" strike="noStrike">
                <a:solidFill>
                  <a:srgbClr val="333333"/>
                </a:solidFill>
                <a:latin typeface="Calisto MT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2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salome.matano</cp:lastModifiedBy>
  <dcterms:modified xsi:type="dcterms:W3CDTF">2012-04-17T01:13:55Z</dcterms:modified>
  <cp:revision>28</cp:revision>
  <dc:subject/>
  <dc:title>THE THREE STATES  OF MATTER  </dc:title>
</cp:coreProperties>
</file>